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A746A-12B9-42F8-8D54-F67244A15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BE70A-1094-4856-8F97-A6CB69ED0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F9127-F0B1-4043-93AF-4B1172512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EB1049-BE08-435E-84A3-4FB307AEF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3E291-2BDA-4DB5-8155-A2F4A6094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7FED7-714C-4BD5-82CE-34BE488B4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498E4-552F-4E9B-B33F-DE82CFAEB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E4A24-37BB-4552-8DD7-37FB50A09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7DF1C-962F-4B32-9B1B-6A70A1C9D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CE74A-8234-4AF5-A7E2-88E797628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30093-60E2-4881-A342-FDFC4C651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54708-BB19-4FA0-A807-98BF0D75B3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E5F3F-7FAC-42B9-80D5-1C7A308E7B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SIMFONIA</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000000"/>
                </a:solidFill>
                <a:latin typeface="Arial"/>
              </a:rPr>
              <a:t>)</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2195640" y="1700280"/>
            <a:ext cx="4876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esiunea iunie-iulie</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advTm="5000">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ff66"/>
            </a:gs>
          </a:gsLst>
          <a:lin ang="13500000"/>
        </a:gradFill>
      </p:bgPr>
    </p:bg>
    <p:spTree>
      <p:nvGrpSpPr>
        <p:cNvPr id="1" name=""/>
        <p:cNvGrpSpPr/>
        <p:nvPr/>
      </p:nvGrpSpPr>
      <p:grpSpPr>
        <a:xfrm>
          <a:off x="0" y="0"/>
          <a:ext cx="0" cy="0"/>
          <a:chOff x="0" y="0"/>
          <a:chExt cx="0" cy="0"/>
        </a:xfrm>
      </p:grpSpPr>
      <p:sp>
        <p:nvSpPr>
          <p:cNvPr id="46"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7"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8" name="Picture 10" descr=""/>
          <p:cNvPicPr/>
          <p:nvPr/>
        </p:nvPicPr>
        <p:blipFill>
          <a:blip r:embed="rId1"/>
          <a:stretch/>
        </p:blipFill>
        <p:spPr>
          <a:xfrm>
            <a:off x="5214960" y="928800"/>
            <a:ext cx="3002040" cy="3001680"/>
          </a:xfrm>
          <a:prstGeom prst="rect">
            <a:avLst/>
          </a:prstGeom>
          <a:ln w="0">
            <a:noFill/>
          </a:ln>
        </p:spPr>
      </p:pic>
    </p:spTree>
  </p:cSld>
  <p:transition spd="med" advTm="5000">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000000"/>
                </a:solidFill>
                <a:latin typeface="Arial"/>
              </a:rPr>
              <a:t>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000000"/>
                </a:solidFill>
                <a:latin typeface="Arial"/>
              </a:rPr>
              <a:t>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 Schumann, J. Sibelius, H. Berlioz, A. Dvorak, G. Mahler, I. Stravinsk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ancez, ceh, austriac, rus, finlandez, german.</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ţi următoarele numere şi scrieţi în dreptul fiecăruia numele compozitorului care a scri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4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5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11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9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7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6 simfonii.</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opiaţi pe caiete şi completaţi grila urmă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a _ _ _ _ _ S _ _ _ _ de Berlioz;</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ompozitor francez (Hector _ _ _ _ I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 Romantism, numărul părţilor se _ _ _ _ F _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e cu _ _ O _ _ _ _.</a:t>
            </a:r>
            <a:endParaRPr b="0" lang="en-US" sz="1200" spc="-1" strike="noStrike">
              <a:solidFill>
                <a:srgbClr val="000000"/>
              </a:solidFill>
              <a:latin typeface="Calibri"/>
            </a:endParaRPr>
          </a:p>
        </p:txBody>
      </p:sp>
    </p:spTree>
  </p:cSld>
  <p:transition spd="med" advTm="5000">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b3s12</cp:lastModifiedBy>
  <dcterms:modified xsi:type="dcterms:W3CDTF">2012-06-18T10:56:26Z</dcterms:modified>
  <cp:revision>47</cp:revision>
  <dc:subject/>
  <dc:title>SALARIUL</dc:title>
</cp:coreProperties>
</file>